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3E76-245F-4199-AD6C-604D656B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57E8-D913-4D78-8D46-35E05A5E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5534-2B26-4A7E-91ED-2AB792E3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B9F-ABC9-4EC7-AE09-805C61E4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0A2C-DA03-4716-A266-5E8C99CD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2749-20EA-478F-87D1-7234BE32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87A1-79D5-45BA-A1D2-099EEA4F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FA0E-BC97-4D87-B03B-0DCD25F56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8CAD-F2E4-45D3-9355-3D1F6DEA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C74A-EADB-41C7-9F08-80E2186A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EF9B-F2A2-4FE2-A250-2C962D45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D38A-F3F0-4BD7-8F60-6AF8AF85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509C-1D30-4F7D-8D2D-CCEDA068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89BC-D55F-444B-AB21-A4369D92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11A2-15C1-40EB-8C37-0BB1E3E6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B3BC-3AA1-42B9-899C-D0A1AF1B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B1943-8E45-4BF0-9C04-CD1159D9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6D4C1-09CC-4556-A54B-7C78B6CAF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9FF21-FF70-4722-9B4D-10FA711C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D14C6-91F3-4BC7-84E4-12445197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3331C-00FA-45A2-8328-4DF5FA5B4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ACA9B-751E-4503-80EB-DF3355D3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84A-D8AA-4505-BB41-111955FD5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23DB3-B537-4D25-B0AE-EFA360C05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E2EFA-43B5-4FC5-BA84-02B12F79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24B9B-E080-4B93-BADA-9CD02ECCB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12F926-738C-44EC-A637-1AA61BCE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1CB6D-A502-4A49-A158-8257172BA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8CA17-3FE8-48F0-8997-1319C4CA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6C5FE-9FA5-4D34-B599-6A7567152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C232C-5923-4EF3-815B-77A70916D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CB586-4C40-4687-ADD1-CBB34FB5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1BE68C-4398-46B1-B36B-90FC64EED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5BC-D8E3-4EB3-9403-ACD4FE548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0BFCF-BE70-4FEA-AA03-0FB8C7ED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0049E-AB8D-4E20-BA48-6D7222978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D332A-9463-4D87-9C35-A3A762A24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11EA-9EE5-4524-A8B5-D52783E0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B63CF-DED5-4B4B-A7CB-8C821A29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CC5B9-EC7C-4691-BBDD-ACDDC5E4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0EAF3-D744-4BEE-A80C-18E4DA14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6F4D6-E643-425F-921D-2A6B388D1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771EE-FDA4-4A07-936D-8B5C44FDD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B95D3-B66A-4CCF-8901-F20E9302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358-928C-4F17-9695-237963AA8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C9B54-34A4-4F02-A0A8-FA6542B4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B329-CE76-4C00-9765-00293FE39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AB956-D119-4D6F-AEFD-BA8F210F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B8554-2568-4C03-8B38-F3CEBDDAB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A1A77-08ED-4162-B2ED-BBAAC6EDB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F517-69F4-448F-8ED6-98A77D9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01D77D-FDC6-4D0A-9B40-A37959EC1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2D8D0-9789-4207-B408-662CBE9B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E1172-9559-41BD-B6A2-405A8741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02482E-2651-4316-96E6-DA64166C1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3F65-E480-4EEA-B607-8D2E3AF5A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5C2A3-AEED-476E-81B0-301DFE94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4CAFD-B0D2-4264-B359-124405C12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B15C7-DE51-4706-B0B8-064C7FF7A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61E15-916D-4077-B406-FFA0950D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0C69EF-A039-4D42-8CBD-3C4CB48A0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2741E-9B8A-41E1-8F07-9300153D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8470B7-9FCD-4D0B-BC12-F46E078A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405B4-EE13-4A02-8297-18D5135B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046A0-6F1A-4693-9D42-B5828148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91F845-7EB1-48A9-85AE-EC3E2007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8354-50AC-4FA3-8EF8-C0024718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3F687-515E-4985-8C1D-D2E7247EE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C3191-8073-4A71-B014-C30BFFA86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DAC97-E66E-43CE-A386-E6D0DB23B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7D6DE-A801-4CA0-B4A2-CAD78283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028EA-09FE-4269-8112-A5A228DF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76183-AC41-4690-9666-3D402557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ACF00-21F0-45DE-A3FA-93E1B134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ED434-F6BD-4E48-A6AA-A4F8EC58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A2A8F-288D-4F08-BB20-0B84DFBE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73538-471A-4944-A2B9-66A62A8B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CFA-F98B-40D9-9A9A-B127A8C0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4A0851-4C4B-4D6C-A1FA-A45A514A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95AC1-0067-48A1-ACEE-E5152AA3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AF506-3E56-48AC-946D-4F7194083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81332-4EF4-4FE4-BC42-A29DFC9D2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D0C2BC-F26A-4BA8-A4FD-FE21968B0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0BEA-F45B-4629-8583-21E22535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ADBCE-6F37-4196-A1E1-0C0D5C4A07A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1B26-12F4-4556-AF4B-0FB2F4FA2FE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8F8CB-B6C1-423A-820C-7FFA52C22FF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6A5D-FE3B-4B61-8090-7D550FC5B83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991F3-0800-45CA-8A28-90C465260BF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4A06F-2EF8-40B7-BE25-FDE551055CD4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orbe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A3AAC-2085-4B89-998E-1F6B9C02848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Butterfly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69" name="Picture 3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51818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6"/>
          <p:cNvSpPr/>
          <p:nvPr/>
        </p:nvSpPr>
        <p:spPr>
          <a:xfrm>
            <a:off x="914400" y="2286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roadway"/>
              </a:rPr>
              <a:t>More than meets the eye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7" name="Picture 10" descr="http://britton.disted.camosun.bc.ca/escher/butterfly2.jpg"/>
          <p:cNvPicPr/>
          <p:nvPr/>
        </p:nvPicPr>
        <p:blipFill>
          <a:blip r:embed="rId1"/>
          <a:stretch/>
        </p:blipFill>
        <p:spPr>
          <a:xfrm>
            <a:off x="2057400" y="1066680"/>
            <a:ext cx="5578560" cy="55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maller and Smaller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1" name="Content Placeholder 3" descr="smaller_and_smaller.jpg"/>
          <p:cNvPicPr/>
          <p:nvPr/>
        </p:nvPicPr>
        <p:blipFill>
          <a:blip r:embed="rId1"/>
          <a:stretch/>
        </p:blipFill>
        <p:spPr>
          <a:xfrm>
            <a:off x="2476440" y="1784520"/>
            <a:ext cx="46483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Path of Life 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3" name="Content Placeholder 3" descr="pathlife.jpg"/>
          <p:cNvPicPr/>
          <p:nvPr/>
        </p:nvPicPr>
        <p:blipFill>
          <a:blip r:embed="rId1"/>
          <a:stretch/>
        </p:blipFill>
        <p:spPr>
          <a:xfrm>
            <a:off x="2743200" y="1447920"/>
            <a:ext cx="44956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Whirlpool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5" name="Content Placeholder 3" descr="al_Escher08_Whirlpools.jpg"/>
          <p:cNvPicPr/>
          <p:nvPr/>
        </p:nvPicPr>
        <p:blipFill>
          <a:blip r:embed="rId1"/>
          <a:stretch/>
        </p:blipFill>
        <p:spPr>
          <a:xfrm>
            <a:off x="3429000" y="1600200"/>
            <a:ext cx="2816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Equiangular Spiral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7" name="Picture 3" descr=""/>
          <p:cNvPicPr/>
          <p:nvPr/>
        </p:nvPicPr>
        <p:blipFill>
          <a:blip r:embed="rId1"/>
          <a:stretch/>
        </p:blipFill>
        <p:spPr>
          <a:xfrm>
            <a:off x="2805120" y="1738440"/>
            <a:ext cx="383544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79" name="Content Placeholder 3" descr="Escher_circle_limit_1.jpg"/>
          <p:cNvPicPr/>
          <p:nvPr/>
        </p:nvPicPr>
        <p:blipFill>
          <a:blip r:embed="rId1"/>
          <a:stretch/>
        </p:blipFill>
        <p:spPr>
          <a:xfrm>
            <a:off x="2590920" y="1523880"/>
            <a:ext cx="44067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II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1" name="Content Placeholder 3" descr="CircLim3.gif"/>
          <p:cNvPicPr/>
          <p:nvPr/>
        </p:nvPicPr>
        <p:blipFill>
          <a:blip r:embed="rId1"/>
          <a:stretch/>
        </p:blipFill>
        <p:spPr>
          <a:xfrm>
            <a:off x="2514600" y="137160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77240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Circle Limit IV</a:t>
            </a:r>
            <a:br>
              <a:rPr sz="4000"/>
            </a:b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“Heaven and Hell”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3" name="Content Placeholder 3" descr="Escher_circle_limit_4.jpg"/>
          <p:cNvPicPr/>
          <p:nvPr/>
        </p:nvPicPr>
        <p:blipFill>
          <a:blip r:embed="rId1"/>
          <a:stretch/>
        </p:blipFill>
        <p:spPr>
          <a:xfrm>
            <a:off x="2560680" y="1784520"/>
            <a:ext cx="4479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Broadway"/>
              </a:rPr>
              <a:t>Square Limi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385" name="Picture 3" descr=""/>
          <p:cNvPicPr/>
          <p:nvPr/>
        </p:nvPicPr>
        <p:blipFill>
          <a:blip r:embed="rId1"/>
          <a:stretch/>
        </p:blipFill>
        <p:spPr>
          <a:xfrm>
            <a:off x="2438280" y="1447920"/>
            <a:ext cx="4800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30T04:17:27Z</dcterms:created>
  <dc:creator>Stephanie Cates</dc:creator>
  <dc:description/>
  <dc:language>en-US</dc:language>
  <cp:lastModifiedBy>Stephanie Cates</cp:lastModifiedBy>
  <dcterms:modified xsi:type="dcterms:W3CDTF">2007-07-30T04:19:18Z</dcterms:modified>
  <cp:revision>1</cp:revision>
  <dc:subject/>
  <dc:title>Butterfly</dc:title>
</cp:coreProperties>
</file>